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499-C4FE-4A20-846E-8F876787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4F5-B4C4-4215-89CE-F235628A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4D7-C3F8-4A80-B339-EDA64A90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A35-DDED-4272-8A61-74B83B16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C38-E577-4F8D-AD6C-B6A8F09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8DD-BF16-4009-AAAF-F56E01C3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7F5-E534-4661-94A9-4B98788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3C6-20F9-40F7-86A3-5F9B1737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56A-02E3-4483-B0ED-EE4D53F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69B-FAA6-4929-BBEB-9D8386BC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A0E-036C-4543-8FC6-4B73DD1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DB7-9743-46C4-B812-34E905E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5766-922D-4BAB-8439-1B1812F5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no longer sets prices on food or othe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dr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 treeless plain in high latitude climates which is covered in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arctic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 Continental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enjoy, hiking,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14T15:21:23Z</dcterms:modified>
  <cp:revision>2</cp:revision>
  <dc:subject/>
  <dc:title>Present Day Russia</dc:title>
</cp:coreProperties>
</file>